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9.wmf" ContentType="image/x-wmf"/>
  <Override PartName="/ppt/media/image11.png" ContentType="image/png"/>
  <Override PartName="/ppt/media/image2.gif" ContentType="image/gif"/>
  <Override PartName="/ppt/media/image8.jpeg" ContentType="image/jpeg"/>
  <Override PartName="/ppt/media/image30.png" ContentType="image/png"/>
  <Override PartName="/ppt/media/image12.png" ContentType="image/png"/>
  <Override PartName="/ppt/media/image13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5.gif" ContentType="image/gif"/>
  <Override PartName="/ppt/media/image5.jpeg" ContentType="image/jpeg"/>
  <Override PartName="/ppt/media/image10.png" ContentType="image/png"/>
  <Override PartName="/ppt/media/image27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AE4-08A8-4F04-897F-0123C878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036-6681-411C-B857-A1C5E46B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AD0-53B2-4240-9882-B43D6A94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4F6-B649-43FB-83F7-48378EF9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328-F024-44DC-A583-41394F68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3D5-3B2E-405E-ADA8-CC1A87EF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18B-91FA-484E-9D3A-39442C01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F36-0028-4222-949B-E6EC0472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BD0-1517-491B-B6EE-EA584129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92C-D022-4CFC-A248-001927D8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A78-5495-4934-B8AB-D97DFC0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9CC-697D-416D-802A-D2DACC0D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0929-E354-4077-B3E6-BC08BC0FA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icro.magnet.fsu.edu/primer/java/scienceopticsu/powersof10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01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Color exists by conven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sweet by conven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bitter by conventio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in reality nothing exists but atoms and the void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pyrus"/>
              </a:rPr>
              <a:t>Democritus (ca. 460 –ca. 370 B.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Helium"/>
          <p:cNvPicPr/>
          <p:nvPr/>
        </p:nvPicPr>
        <p:blipFill>
          <a:blip r:embed="rId1"/>
          <a:stretch/>
        </p:blipFill>
        <p:spPr>
          <a:xfrm>
            <a:off x="6172200" y="1066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Atomic Structure"/>
          <p:cNvPicPr/>
          <p:nvPr/>
        </p:nvPicPr>
        <p:blipFill>
          <a:blip r:embed="rId1"/>
          <a:stretch/>
        </p:blipFill>
        <p:spPr>
          <a:xfrm>
            <a:off x="2743200" y="1371600"/>
            <a:ext cx="3809880" cy="349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5867640" cy="4405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s_orb.gif (8569 bytes)"/>
          <p:cNvPicPr/>
          <p:nvPr/>
        </p:nvPicPr>
        <p:blipFill>
          <a:blip r:embed="rId3"/>
          <a:stretch/>
        </p:blipFill>
        <p:spPr>
          <a:xfrm>
            <a:off x="63244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How &amp; why atom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609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761976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Why the universe is run by a teena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Helium"/>
          <p:cNvPicPr/>
          <p:nvPr/>
        </p:nvPicPr>
        <p:blipFill>
          <a:blip r:embed="rId1"/>
          <a:stretch/>
        </p:blipFill>
        <p:spPr>
          <a:xfrm>
            <a:off x="3429000" y="4343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 #1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Quantity =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Protons determines type of atom, usually determines # of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5715000" cy="196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3956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Periodic Table showing Periods"/>
          <p:cNvPicPr/>
          <p:nvPr/>
        </p:nvPicPr>
        <p:blipFill>
          <a:blip r:embed="rId1"/>
          <a:stretch/>
        </p:blipFill>
        <p:spPr>
          <a:xfrm>
            <a:off x="457200" y="16765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362320"/>
            <a:ext cx="228600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Row has the same number of energ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 #2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Atoms have stereo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#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Atoms form cl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eriodic Table showing Groups"/>
          <p:cNvPicPr/>
          <p:nvPr/>
        </p:nvPicPr>
        <p:blipFill>
          <a:blip r:embed="rId1"/>
          <a:stretch/>
        </p:blipFill>
        <p:spPr>
          <a:xfrm>
            <a:off x="304920" y="16765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81680" y="1981080"/>
            <a:ext cx="221004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lumn or family has the same number of electrons in the outer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 #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Atoms want to be indepen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Inert gases on the periodic table"/>
          <p:cNvPicPr/>
          <p:nvPr/>
        </p:nvPicPr>
        <p:blipFill>
          <a:blip r:embed="rId1"/>
          <a:stretch/>
        </p:blipFill>
        <p:spPr>
          <a:xfrm>
            <a:off x="228600" y="205740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95880" y="1981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791320" y="4419720"/>
            <a:ext cx="3171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Alakline metals in the periodic table"/>
          <p:cNvPicPr/>
          <p:nvPr/>
        </p:nvPicPr>
        <p:blipFill>
          <a:blip r:embed="rId1"/>
          <a:stretch/>
        </p:blipFill>
        <p:spPr>
          <a:xfrm>
            <a:off x="457200" y="160020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43600" y="3505320"/>
            <a:ext cx="2600280" cy="2409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791320" y="4572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Halogens on the Periodic Table"/>
          <p:cNvPicPr/>
          <p:nvPr/>
        </p:nvPicPr>
        <p:blipFill>
          <a:blip r:embed="rId1"/>
          <a:stretch/>
        </p:blipFill>
        <p:spPr>
          <a:xfrm>
            <a:off x="380880" y="1752480"/>
            <a:ext cx="5105520" cy="3829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6553080" cy="5548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934320" y="12193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 #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If you can’t do it…Fake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4746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3200400"/>
            <a:ext cx="190512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ots of energy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3048120"/>
            <a:ext cx="190512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Less energy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Understanding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2920" y="1371600"/>
            <a:ext cx="1828800" cy="128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1676520"/>
            <a:ext cx="5105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971800"/>
            <a:ext cx="2590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3581280"/>
            <a:ext cx="25905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148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600200"/>
            <a:ext cx="1066680" cy="99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505320"/>
            <a:ext cx="1067040" cy="9903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657240" y="2361960"/>
            <a:ext cx="11430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334120" y="403812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952880"/>
            <a:ext cx="1371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952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50288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isservices.sdsc.edu/projects/discove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8006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Rule#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Always take the easy w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it’s better to have your own then to sh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Respiration sugar becomes CO2 and Energy"/>
          <p:cNvPicPr/>
          <p:nvPr/>
        </p:nvPicPr>
        <p:blipFill>
          <a:blip r:embed="rId1"/>
          <a:stretch/>
        </p:blipFill>
        <p:spPr>
          <a:xfrm>
            <a:off x="990720" y="3429000"/>
            <a:ext cx="3352680" cy="3017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1852560" cy="1905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15000" y="3657600"/>
            <a:ext cx="2895480" cy="1143000"/>
          </a:xfrm>
          <a:prstGeom prst="cloudCallout">
            <a:avLst>
              <a:gd name="adj1" fmla="val -53291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ky for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Snap ITC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 cut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14cm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nap ITC"/>
              </a:rPr>
              <a:t>jean p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nap ITC"/>
              </a:rPr>
              <a:t>nd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 cut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7cm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nap ITC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nap ITC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 cut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3.5cm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nap ITC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4</a:t>
            </a:r>
            <a:r>
              <a:rPr b="1" lang="en-US" sz="3200" spc="-1" strike="noStrike" baseline="30000">
                <a:solidFill>
                  <a:srgbClr val="cc0066"/>
                </a:solidFill>
                <a:latin typeface="Snap ITC"/>
              </a:rPr>
              <a:t>th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 cut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1.75cm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nap ITC"/>
              </a:rPr>
              <a:t>keyboard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128592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05640" y="179064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800600" y="487692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.44cm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howcard Gothic"/>
              </a:rPr>
              <a:t>poppy s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8</a:t>
            </a:r>
            <a:r>
              <a:rPr b="1" lang="en-US" sz="3200" spc="-1" strike="noStrike" baseline="30000">
                <a:solidFill>
                  <a:srgbClr val="cc0066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1mm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cc0066"/>
                </a:solidFill>
                <a:latin typeface="Showcard Gothic"/>
              </a:rPr>
              <a:t>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1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.06mm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howcard Gothic"/>
              </a:rPr>
              <a:t>Human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18</a:t>
            </a:r>
            <a:r>
              <a:rPr b="1" lang="en-US" sz="3200" spc="-1" strike="noStrike" baseline="30000">
                <a:solidFill>
                  <a:srgbClr val="009900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1micron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2052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19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.5micron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light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24</a:t>
            </a:r>
            <a:r>
              <a:rPr b="1" lang="en-US" sz="3200" spc="-1" strike="noStrike" baseline="30000">
                <a:solidFill>
                  <a:srgbClr val="009900"/>
                </a:solidFill>
                <a:latin typeface="Showcard Gothic"/>
              </a:rPr>
              <a:t>th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.015</a:t>
            </a:r>
            <a:r>
              <a:rPr b="1" lang="en-US" sz="2000" spc="-1" strike="noStrike">
                <a:solidFill>
                  <a:srgbClr val="009900"/>
                </a:solidFill>
                <a:latin typeface="Showcard Gothic"/>
              </a:rPr>
              <a:t>micron</a:t>
            </a:r>
            <a:r>
              <a:rPr b="1" lang="en-US" sz="3200" spc="-1" strike="noStrike">
                <a:solidFill>
                  <a:srgbClr val="009900"/>
                </a:solidFill>
                <a:latin typeface="Showcard Gothic"/>
              </a:rPr>
              <a:t>   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3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Showcard Gothic"/>
              </a:rPr>
              <a:t>st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 cut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.0001micron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Showcard Gothic"/>
              </a:rPr>
              <a:t>     atom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Helium"/>
          <p:cNvPicPr/>
          <p:nvPr/>
        </p:nvPicPr>
        <p:blipFill>
          <a:blip r:embed="rId2"/>
          <a:stretch/>
        </p:blipFill>
        <p:spPr>
          <a:xfrm>
            <a:off x="3657600" y="4800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icro.magnet.fsu.edu/primer/java/scienceopticsu/powersof10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9400" y="3276720"/>
            <a:ext cx="48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urchon.com/chemistry/atom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5:25:39Z</dcterms:created>
  <dc:creator>vinoph</dc:creator>
  <dc:description/>
  <dc:language>en-US</dc:language>
  <cp:lastModifiedBy>jayoig</cp:lastModifiedBy>
  <dcterms:modified xsi:type="dcterms:W3CDTF">2007-11-15T12:23:16Z</dcterms:modified>
  <cp:revision>20</cp:revision>
  <dc:subject/>
  <dc:title>Slide 1</dc:title>
</cp:coreProperties>
</file>